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7630-D1ED-4A06-85F5-3A0B282D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0F1-435E-44AB-BBC1-982EB4DF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DB44-4003-4CEA-930F-7F05C410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C7A-EFDB-4D77-BB9F-57AE0A72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1200-CC2A-4EAE-93A0-ECF8806E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C265-1E81-4FD2-B09D-77F7A7F3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04C0-6C19-4630-B8F2-1D88AB75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EFE4-0F6A-4F33-9E83-CC3A6FA3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17E2-6B71-4653-AC9C-A70911B3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4769-B6BB-4FA1-BE58-FC703C95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6239-B9DA-465B-80D1-7D5F21B5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16BA-5BC9-4091-94D1-F8EF0471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214D-42C1-4F81-AF50-DFFE66D9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FD8E-A954-4352-8D9F-61E0091B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B968-452F-4A6C-BCD3-0102031F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DDDD-30A8-4461-989F-0874FF2D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1479-2302-4B29-BFB1-FB637915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6DE-756B-42A1-9069-93976FC8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176D-029E-4D53-8A64-CE908FD5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271F-A813-4289-A156-CD5A6B34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9520-047D-410C-BDF8-8F5C7CE8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0BE1-9BBC-49C8-867B-F85E460E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D26-41C5-4013-B655-AA565002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753E-B1A4-4455-8D6B-A72A3A16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2225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91960" y="6248520"/>
            <a:ext cx="3390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00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910720" y="141120"/>
            <a:ext cx="54000" cy="5400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90440" y="138240"/>
            <a:ext cx="381240" cy="380880"/>
            <a:chOff x="190440" y="138240"/>
            <a:chExt cx="381240" cy="380880"/>
          </a:xfrm>
        </p:grpSpPr>
        <p:sp>
          <p:nvSpPr>
            <p:cNvPr id="7" name=""/>
            <p:cNvSpPr/>
            <p:nvPr/>
          </p:nvSpPr>
          <p:spPr>
            <a:xfrm>
              <a:off x="190440" y="1382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1000" y="163440"/>
              <a:ext cx="195120" cy="131760"/>
            </a:xfrm>
            <a:custGeom>
              <a:avLst/>
              <a:gdLst/>
              <a:ahLst/>
              <a:rect l="l" t="t" r="r" b="b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19240" y="365040"/>
              <a:ext cx="210960" cy="141480"/>
            </a:xfrm>
            <a:custGeom>
              <a:avLst/>
              <a:gdLst/>
              <a:ahLst/>
              <a:rect l="l" t="t" r="r" b="b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8648640" y="163440"/>
            <a:ext cx="381240" cy="381240"/>
            <a:chOff x="8648640" y="163440"/>
            <a:chExt cx="381240" cy="381240"/>
          </a:xfrm>
        </p:grpSpPr>
        <p:sp>
          <p:nvSpPr>
            <p:cNvPr id="11" name=""/>
            <p:cNvSpPr/>
            <p:nvPr/>
          </p:nvSpPr>
          <p:spPr>
            <a:xfrm>
              <a:off x="8648640" y="16344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09200" y="189000"/>
              <a:ext cx="195120" cy="131760"/>
            </a:xfrm>
            <a:custGeom>
              <a:avLst/>
              <a:gdLst/>
              <a:ahLst/>
              <a:rect l="l" t="t" r="r" b="b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77440" y="390600"/>
              <a:ext cx="210960" cy="141120"/>
            </a:xfrm>
            <a:custGeom>
              <a:avLst/>
              <a:gdLst/>
              <a:ahLst/>
              <a:rect l="l" t="t" r="r" b="b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8661240" y="6310440"/>
            <a:ext cx="381240" cy="380880"/>
            <a:chOff x="8661240" y="6310440"/>
            <a:chExt cx="381240" cy="380880"/>
          </a:xfrm>
        </p:grpSpPr>
        <p:sp>
          <p:nvSpPr>
            <p:cNvPr id="15" name=""/>
            <p:cNvSpPr/>
            <p:nvPr/>
          </p:nvSpPr>
          <p:spPr>
            <a:xfrm>
              <a:off x="8661240" y="63104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21800" y="6335640"/>
              <a:ext cx="195120" cy="131760"/>
            </a:xfrm>
            <a:custGeom>
              <a:avLst/>
              <a:gdLst/>
              <a:ahLst/>
              <a:rect l="l" t="t" r="r" b="b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0040" y="6537240"/>
              <a:ext cx="210960" cy="141480"/>
            </a:xfrm>
            <a:custGeom>
              <a:avLst/>
              <a:gdLst/>
              <a:ahLst/>
              <a:rect l="l" t="t" r="r" b="b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177840" y="6335640"/>
            <a:ext cx="380880" cy="381240"/>
            <a:chOff x="177840" y="6335640"/>
            <a:chExt cx="380880" cy="381240"/>
          </a:xfrm>
        </p:grpSpPr>
        <p:sp>
          <p:nvSpPr>
            <p:cNvPr id="19" name=""/>
            <p:cNvSpPr/>
            <p:nvPr/>
          </p:nvSpPr>
          <p:spPr>
            <a:xfrm>
              <a:off x="177840" y="633564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38040" y="6361200"/>
              <a:ext cx="195480" cy="131760"/>
            </a:xfrm>
            <a:custGeom>
              <a:avLst/>
              <a:gdLst/>
              <a:ahLst/>
              <a:rect l="l" t="t" r="r" b="b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6280" y="6562800"/>
              <a:ext cx="211320" cy="141120"/>
            </a:xfrm>
            <a:custGeom>
              <a:avLst/>
              <a:gdLst/>
              <a:ahLst/>
              <a:rect l="l" t="t" r="r" b="b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dt" idx="4"/>
          </p:nvPr>
        </p:nvSpPr>
        <p:spPr>
          <a:xfrm>
            <a:off x="711000" y="6264360"/>
            <a:ext cx="246348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ftr" idx="5"/>
          </p:nvPr>
        </p:nvSpPr>
        <p:spPr>
          <a:xfrm>
            <a:off x="3314520" y="6251040"/>
            <a:ext cx="264132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6"/>
          </p:nvPr>
        </p:nvSpPr>
        <p:spPr>
          <a:xfrm>
            <a:off x="6108480" y="6251040"/>
            <a:ext cx="237492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77840" y="152280"/>
            <a:ext cx="507960" cy="470160"/>
            <a:chOff x="177840" y="152280"/>
            <a:chExt cx="507960" cy="470160"/>
          </a:xfrm>
        </p:grpSpPr>
        <p:sp>
          <p:nvSpPr>
            <p:cNvPr id="62" name=""/>
            <p:cNvSpPr/>
            <p:nvPr/>
          </p:nvSpPr>
          <p:spPr>
            <a:xfrm>
              <a:off x="177840" y="15228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5520" y="160200"/>
              <a:ext cx="253800" cy="23832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440" y="3697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895480" y="101520"/>
            <a:ext cx="507960" cy="470160"/>
            <a:chOff x="2895480" y="101520"/>
            <a:chExt cx="507960" cy="470160"/>
          </a:xfrm>
        </p:grpSpPr>
        <p:sp>
          <p:nvSpPr>
            <p:cNvPr id="66" name=""/>
            <p:cNvSpPr/>
            <p:nvPr/>
          </p:nvSpPr>
          <p:spPr>
            <a:xfrm>
              <a:off x="2895480" y="10152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3160" y="109440"/>
              <a:ext cx="254160" cy="23832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08440" y="318960"/>
              <a:ext cx="25056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88920" y="6299280"/>
            <a:ext cx="507960" cy="469800"/>
            <a:chOff x="88920" y="6299280"/>
            <a:chExt cx="507960" cy="469800"/>
          </a:xfrm>
        </p:grpSpPr>
        <p:sp>
          <p:nvSpPr>
            <p:cNvPr id="70" name=""/>
            <p:cNvSpPr/>
            <p:nvPr/>
          </p:nvSpPr>
          <p:spPr>
            <a:xfrm>
              <a:off x="88920" y="62992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6600" y="6307200"/>
              <a:ext cx="253800" cy="23796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1520" y="65167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8483760" y="139680"/>
            <a:ext cx="507960" cy="469800"/>
            <a:chOff x="8483760" y="139680"/>
            <a:chExt cx="507960" cy="469800"/>
          </a:xfrm>
        </p:grpSpPr>
        <p:sp>
          <p:nvSpPr>
            <p:cNvPr id="74" name=""/>
            <p:cNvSpPr/>
            <p:nvPr/>
          </p:nvSpPr>
          <p:spPr>
            <a:xfrm>
              <a:off x="8483760" y="1396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731080" y="147600"/>
              <a:ext cx="254160" cy="23832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96360" y="3571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8585280" y="6324480"/>
            <a:ext cx="507960" cy="470160"/>
            <a:chOff x="8585280" y="6324480"/>
            <a:chExt cx="507960" cy="470160"/>
          </a:xfrm>
        </p:grpSpPr>
        <p:sp>
          <p:nvSpPr>
            <p:cNvPr id="78" name=""/>
            <p:cNvSpPr/>
            <p:nvPr/>
          </p:nvSpPr>
          <p:spPr>
            <a:xfrm>
              <a:off x="8585280" y="632448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832960" y="6332400"/>
              <a:ext cx="253800" cy="23832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97880" y="65419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26080" y="114480"/>
            <a:ext cx="507960" cy="469800"/>
            <a:chOff x="5626080" y="114480"/>
            <a:chExt cx="507960" cy="469800"/>
          </a:xfrm>
        </p:grpSpPr>
        <p:sp>
          <p:nvSpPr>
            <p:cNvPr id="82" name=""/>
            <p:cNvSpPr/>
            <p:nvPr/>
          </p:nvSpPr>
          <p:spPr>
            <a:xfrm>
              <a:off x="5626080" y="1144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73760" y="122400"/>
              <a:ext cx="254160" cy="23796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38680" y="3319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88920" y="3200400"/>
            <a:ext cx="507960" cy="469800"/>
            <a:chOff x="88920" y="3200400"/>
            <a:chExt cx="507960" cy="469800"/>
          </a:xfrm>
        </p:grpSpPr>
        <p:sp>
          <p:nvSpPr>
            <p:cNvPr id="86" name=""/>
            <p:cNvSpPr/>
            <p:nvPr/>
          </p:nvSpPr>
          <p:spPr>
            <a:xfrm>
              <a:off x="88920" y="320040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6600" y="3208320"/>
              <a:ext cx="253800" cy="23832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1520" y="341784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8559720" y="3327480"/>
            <a:ext cx="507960" cy="469800"/>
            <a:chOff x="8559720" y="3327480"/>
            <a:chExt cx="507960" cy="469800"/>
          </a:xfrm>
        </p:grpSpPr>
        <p:sp>
          <p:nvSpPr>
            <p:cNvPr id="90" name=""/>
            <p:cNvSpPr/>
            <p:nvPr/>
          </p:nvSpPr>
          <p:spPr>
            <a:xfrm>
              <a:off x="8559720" y="33274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07400" y="3335400"/>
              <a:ext cx="254160" cy="237960"/>
            </a:xfrm>
            <a:custGeom>
              <a:avLst/>
              <a:gdLst/>
              <a:ahLst/>
              <a:rect l="l" t="t" r="r" b="b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72680" y="3544920"/>
              <a:ext cx="25056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3:18Z</dcterms:modified>
  <cp:revision>17</cp:revision>
  <dc:subject/>
  <dc:title>幻灯片 1</dc:title>
</cp:coreProperties>
</file>